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0C1-0C82-4EEE-9125-9927F210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026-51C8-45A4-917D-F937819C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EC1-7495-41F7-A9AF-8FA3F3CA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E5B-2A3D-4B1D-BAEC-C6499706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ED57-2543-4ED3-8613-65C05C4E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89A4-03B4-4990-9AE1-244C089D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34D7-1793-4FC2-B0CF-E5508232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7303-D136-45E9-9948-118F7E84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FE44-37D3-47B7-A100-2374EE12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7F76-3201-4195-8F59-111E224C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6B98-DAB7-40EC-BA3D-1AF78DAF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648-B954-40F6-8E9B-549769D5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22C5-6938-40C8-A18C-7647F481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14FF-23F2-4BAE-ACE0-2B69FCA6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539B-D134-498C-B3E1-45E44907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19EE-38A4-41C6-9F54-4437700E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2819-768B-4E1A-B410-CC284C8B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98F-99F2-4D38-8619-E906889B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2FC-77AC-44EF-A8BE-62087603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B78-7ADD-4A96-9570-3CB89063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E46-E015-4845-9421-2514054F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1FB-D40E-4702-BA3A-5B5D08F8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D03-1E53-4771-ADE2-F74328A3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E69-9C68-44B7-82B8-DA34CAB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E6DA-834D-4E01-A85B-B8D73089A2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8D99-4E08-42A5-92DE-2224E39A8D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21154800">
            <a:off x="901800" y="1298520"/>
            <a:ext cx="7997760" cy="19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 поведения учащихся в школ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Утром рано просыпайся,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Хорошенько умывайся,</a:t>
            </a:r>
            <a:br>
              <a:rPr sz="32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Чтобы в школе не зевать,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Носом в парту не клевать!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С вечера в портфель сложи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Тетради, учебники, карандаши.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Утром ещё раз проверь,—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Готов к занятиям теперь!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Иди в школу по дорожке,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На крылечке вытри ножки!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А потом лишь заходи —</a:t>
            </a:r>
            <a:br>
              <a:rPr sz="1800"/>
            </a:b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День учебный впереди!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1249560" cy="13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Парта – это не кро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И на ней нельзя ле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Мы должны не заб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Спинку ровненько держ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На уроках будем 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Старательны, внимательн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По три раза повтор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Совсем не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Ответить хочешь – не шу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А только руку под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Сначала подум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c"/>
                </a:solidFill>
                <a:latin typeface="Arial"/>
              </a:rPr>
              <a:t>Потом отвеч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39"/>
                </a:solidFill>
                <a:latin typeface="Arial"/>
              </a:rPr>
              <a:t>Входишь в класс со словом «здравствуй»</a:t>
            </a:r>
            <a:br>
              <a:rPr sz="18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И здоровым будешь сам,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Чтоб чувствовать себя прекрасно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Желай здоровья по утрам!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Для всех закон, а не желание –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Приходим в класс без опоздания!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Лишь только прозвенит звонок –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Начинается урок!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На уроках не хихикай,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Стол туда – сюда не двигай!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Учитель спросит – надо встать,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Когда он сесть позволит – сядь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4005c"/>
                </a:solidFill>
                <a:latin typeface="Arial"/>
              </a:rPr>
              <a:t>Не бойся ошибитьс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4005c"/>
                </a:solidFill>
                <a:latin typeface="Arial"/>
              </a:rPr>
              <a:t>Ведь ты пришёл 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4005c"/>
                </a:solidFill>
                <a:latin typeface="Arial"/>
              </a:rPr>
              <a:t>Не унывай, не мучайс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4005c"/>
                </a:solidFill>
                <a:latin typeface="Arial"/>
              </a:rPr>
              <a:t>Ведь на ошибках уча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4005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4005c"/>
                </a:solidFill>
                <a:latin typeface="Arial"/>
              </a:rPr>
              <a:t>Не дразнись, не зазнавайся,</a:t>
            </a:r>
            <a:br>
              <a:rPr sz="2800"/>
            </a:br>
            <a:r>
              <a:rPr b="0" i="1" lang="en-US" sz="2800" spc="-1" strike="noStrike">
                <a:solidFill>
                  <a:srgbClr val="e4005c"/>
                </a:solidFill>
                <a:latin typeface="Arial"/>
              </a:rPr>
              <a:t>В школе всем помочь старай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4005c"/>
                </a:solidFill>
                <a:latin typeface="Arial"/>
              </a:rPr>
              <a:t>Зря не хмурься, будь см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4005c"/>
                </a:solidFill>
                <a:latin typeface="Arial"/>
              </a:rPr>
              <a:t>И найдёшь себе друз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4005c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4005c"/>
                </a:solidFill>
                <a:latin typeface="Arial"/>
              </a:rPr>
              <a:t>« До встречи! До свидани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4005c"/>
                </a:solidFill>
                <a:latin typeface="Arial"/>
              </a:rPr>
              <a:t>Скажи всем на прощ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4005c"/>
                </a:solidFill>
                <a:latin typeface="Arial"/>
              </a:rPr>
              <a:t>Завтра будем мы о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4005c"/>
                </a:solidFill>
                <a:latin typeface="Arial"/>
              </a:rPr>
              <a:t>Улыбкой новый день встречать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8:19:31Z</dcterms:created>
  <dc:creator>Саша</dc:creator>
  <dc:description/>
  <dc:language>en-US</dc:language>
  <cp:lastModifiedBy>Саша</cp:lastModifiedBy>
  <dcterms:modified xsi:type="dcterms:W3CDTF">2013-11-13T13:12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