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26B-19FB-47E5-9F7B-366DB559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33C-0772-46E4-95D6-678DB4DC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A88-782E-44BF-A17F-9CFE3632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9BB-2B88-401C-A019-725C1FC0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0AFB-F795-4A5B-9AD8-03AAD226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6583-AA67-4B78-9BA5-ED5B8BB5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4BD7-7CE4-4F62-A168-5926A1FE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815C-6CB2-4419-8332-A99F648C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6A94-F792-4A83-B07C-6892D5E4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AB9F-1683-4F95-8F8B-5284827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3BA0-FFE0-456E-9B71-396A476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D1F-281B-4D9C-9644-9F636E89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B27-9288-474D-9689-06D592BC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14BD-AE0C-488B-BA41-03987223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37EB-A06B-40C4-A713-6909B578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DA5F-6791-48A9-92F6-ABECA0A5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58AF-E025-4095-A35E-ABAF41AC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FD7-8A9B-43FC-8FEC-070E7848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7E7-3015-49F1-8D75-F3844240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1D0-373A-4882-ACD2-EFD025C1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0DB-511F-4DE5-90D2-23374CA6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515-9378-409B-8CD9-2E6446C6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11E-B876-4EA4-B557-C7F3DD4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E48-A022-4825-84B6-8F59119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DEE8-3551-4189-AFD8-8D8E01F45CB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65F9-F6AD-4643-ACE2-577D7FEDB52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РЕШЕТОВА  ЮЛИЯ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ченик  недел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-а 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1-15 ноября 2013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етова  Юл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одилась 2 февраля 2006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ещала детский сад в г.Владими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влекается гимнастикой и танц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Достижения Юли на этой недел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Юля самостоятельно подготовила танцевальные движения для музыкального номера на конкурс инсценированной песн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 всех  уроках активна и успешно справилась с самостоятельной работой по математик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тлично дежурила в классе по сохранению чистоты и поряд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здравляем Юлю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 присвоением з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60033"/>
                </a:solidFill>
                <a:latin typeface="Arial"/>
              </a:rPr>
              <a:t>УЧЕНИК  НЕДЕЛИ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елаем ей дальнейших успехов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8:19:31Z</dcterms:created>
  <dc:creator>Саша</dc:creator>
  <dc:description/>
  <dc:language>en-US</dc:language>
  <cp:lastModifiedBy>Саша</cp:lastModifiedBy>
  <dcterms:modified xsi:type="dcterms:W3CDTF">2013-11-13T12:04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